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12A-9588-454A-BEC5-1BF0CC1F60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226-F4DF-4E63-B0F1-63DE63C6A2C5}" type="slidenum">
              <a:rPr b="0" lang="es-ES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346C-EC57-4CDF-906A-DF760E5E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BE72-0611-4B06-99EB-BD66C33E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0F48-1688-4F27-8648-45ED3250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79AA-5DDD-4CCD-8F07-524352A8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6956-D579-4FF9-BA7F-648950C3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7705-250B-4A0E-B5F2-52070ED0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8832-3403-4655-A900-100DB6CA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EF3B-3C07-4EB6-B174-90975295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DB4C-46BB-4F50-8232-27C3F2F0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3EF1-D0C5-4CEF-811D-F84DCF0F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021D-F85E-4D8D-A6A8-1F0CE63B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9B18-B2CA-4BD1-8297-24476CCC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10AC-9135-4CA1-86EA-2DECDF3A5ECE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98984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2b20"/>
                </a:solidFill>
                <a:latin typeface="Cambria"/>
              </a:rPr>
              <a:t>UNIDAD 1. LA BASE FÍSICO-QUÍMICA DE LA VIDA: BIOELEMENTOS Y BIOMOLÉCULAS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79280" y="981000"/>
            <a:ext cx="89647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2f2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Bioelementos o elementos biogénicos: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9cbebd"/>
                </a:solidFill>
                <a:latin typeface="Arial"/>
              </a:rPr>
              <a:t>Concepto. Clasificación. Propiedades del C que le hacen idóneo para constituir los seres vivo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2. Biomoléculas o principios inmediato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9cbebd"/>
                </a:solidFill>
                <a:latin typeface="Arial"/>
              </a:rPr>
              <a:t>Concepto. Tipos: biomoléculas inorgánicas y orgánica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3. Biomoléculas inorgánicas: el agua y las sales minerale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3.1. El agua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9cbebd"/>
                </a:solidFill>
                <a:latin typeface="Arial"/>
              </a:rPr>
              <a:t>Estructura molecular. Propiedades físico-químicas del agua derivadas de su estructura. Funciones biológicas en relación con sus propiedade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3.2. Las sales minerale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9cbebd"/>
                </a:solidFill>
                <a:latin typeface="Arial"/>
              </a:rPr>
              <a:t>Estado físico de las sales minerales en los seres vivos. Estado sólido y en disolución. Función de las sales en estado sólido y ejemplos. Funciones de las sales en disolución y ejemplos. Concepto y regulación del pH. Sistemas amortiguadores o tampones, ejemplos. Ósmosis: conceptos de ósmosis, medios hipotónico, hipertónico e isotónico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0000"/>
                </a:solidFill>
                <a:latin typeface="Cambria"/>
              </a:rPr>
              <a:t>SALES MINERALES DISUELTA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40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2b20"/>
                </a:solidFill>
                <a:latin typeface="Calibri"/>
              </a:rPr>
              <a:t>En forma de aniones </a:t>
            </a:r>
            <a:r>
              <a:rPr b="0" lang="es-ES" sz="22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0" lang="es-ES" sz="2000" spc="-1" strike="noStrike">
                <a:solidFill>
                  <a:srgbClr val="c00000"/>
                </a:solidFill>
                <a:latin typeface="Calibri"/>
              </a:rPr>
              <a:t>fosfatos, carbonatos, nitratos, bicarbonatos, cloruros)</a:t>
            </a:r>
            <a:r>
              <a:rPr b="0" lang="es-E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y de cationes </a:t>
            </a:r>
            <a:r>
              <a:rPr b="0" lang="es-ES" sz="2000" spc="-1" strike="noStrike">
                <a:solidFill>
                  <a:srgbClr val="800000"/>
                </a:solidFill>
                <a:latin typeface="Calibri"/>
              </a:rPr>
              <a:t>( sodio, calcio, magnesio, hierro, potasio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Funcion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1. </a:t>
            </a: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Mantener el grado de salinidad en los organismo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2. Regular la actividad enzimátic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3. Estabilizar las dispersiones coloidal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i="1" lang="es-ES" sz="2200" spc="-1" strike="noStrike">
                <a:solidFill>
                  <a:srgbClr val="2f2b20"/>
                </a:solidFill>
                <a:latin typeface="Calibri"/>
              </a:rPr>
              <a:t>4. Generar potenciales eléctricos (potencial de membran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i="1" lang="es-ES" sz="2800" spc="-1" strike="noStrike">
                <a:solidFill>
                  <a:srgbClr val="2f2b20"/>
                </a:solidFill>
                <a:latin typeface="Calibri"/>
              </a:rPr>
              <a:t>Regular el pH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6920" y="1052640"/>
            <a:ext cx="7201080" cy="1334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cbebd"/>
                </a:solidFill>
                <a:latin typeface="Arial"/>
              </a:rPr>
              <a:t>Disoluciones amortiguadoras del pH o tampones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Son disoluciones formadas por un ácido débil y su sal o base conjugada. Gracias a ellas no se producen importantes modificaciones del pH en el lugar en el que se encuentran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826920" y="249228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Ácido: cede protones. Base: acepta protone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826920" y="3357720"/>
            <a:ext cx="7201080" cy="295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Tampón Bicarbonato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(extracelular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+ 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O ↔ 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3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↔ HC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+ H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Si aumenta H</a:t>
            </a:r>
            <a:r>
              <a:rPr b="0" lang="es-ES" sz="16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, el equilibrio se desplaza hacia la izquierda y si baja, hacia la derech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Tampón Fosfato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(intracelular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P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4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+ 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O ↔ HPO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4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2-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+ H</a:t>
            </a:r>
            <a:r>
              <a:rPr b="0" lang="es-ES" sz="18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O</a:t>
            </a:r>
            <a:r>
              <a:rPr b="0" lang="es-ES" sz="18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Si aumenta H</a:t>
            </a:r>
            <a:r>
              <a:rPr b="0" lang="es-ES" sz="16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O</a:t>
            </a:r>
            <a:r>
              <a:rPr b="0" lang="es-ES" sz="16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, el equilibrio se desplaza hacia la izquierda y si baja, hacia la derech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i="1" lang="es-E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i="1" lang="es-ES" sz="2800" spc="-1" strike="noStrike">
                <a:solidFill>
                  <a:srgbClr val="2f2b20"/>
                </a:solidFill>
                <a:latin typeface="Calibri"/>
              </a:rPr>
              <a:t>Regular la presión osmótica y el volumen celular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26920" y="1341360"/>
            <a:ext cx="7561440" cy="1191240"/>
          </a:xfrm>
          <a:prstGeom prst="rect">
            <a:avLst/>
          </a:pr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Ósmosis: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es un fenómeno en el que se produce el paso o difusión de un disolvente a través de una membrana semipermeable (permite el paso de disolventes, pero no de solutos) desde una disolución más diluida a una más concentrada)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00000" y="2781360"/>
            <a:ext cx="7559640" cy="2025720"/>
          </a:xfrm>
          <a:prstGeom prst="rect">
            <a:avLst/>
          </a:prstGeom>
          <a:solidFill>
            <a:srgbClr val="ff66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Medio hipertónico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: aquel que tiene una elevada concentración de solutos con respecto a otros en los que la concentración es inferior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Medio hipotónico: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aquel que tiene una concentración de solutos baja con respecto a otros en los que la concentración es superior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Medio isotónico: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aquel que tiene la misma concentración de solutos con respecto a otros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t3-4a1"/>
          <p:cNvPicPr/>
          <p:nvPr/>
        </p:nvPicPr>
        <p:blipFill>
          <a:blip r:embed="rId1"/>
          <a:stretch/>
        </p:blipFill>
        <p:spPr>
          <a:xfrm>
            <a:off x="355680" y="2568600"/>
            <a:ext cx="3352680" cy="2224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t3-4a2"/>
          <p:cNvPicPr/>
          <p:nvPr/>
        </p:nvPicPr>
        <p:blipFill>
          <a:blip r:embed="rId2"/>
          <a:stretch/>
        </p:blipFill>
        <p:spPr>
          <a:xfrm>
            <a:off x="5183280" y="2637000"/>
            <a:ext cx="3241440" cy="2151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39680" y="478656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Medio hipotónico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resión osmótica baj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120760" y="4891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Medio hipertónico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resión osmótica alt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829480" y="48121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Medios isotónicos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Igual presión osmótic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98440" y="23785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BAJA CONCENTRAC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089080" y="2376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ALTA CONCENTRAC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774720" y="1821240"/>
            <a:ext cx="2666880" cy="782280"/>
            <a:chOff x="774720" y="1821240"/>
            <a:chExt cx="2666880" cy="782280"/>
          </a:xfrm>
        </p:grpSpPr>
        <p:sp>
          <p:nvSpPr>
            <p:cNvPr id="208" name="Text Box 12"/>
            <p:cNvSpPr/>
            <p:nvPr/>
          </p:nvSpPr>
          <p:spPr>
            <a:xfrm>
              <a:off x="774720" y="18212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Membrana semipermeable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2108160" y="2070000"/>
              <a:ext cx="0" cy="53352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10" name="Group 14"/>
          <p:cNvGrpSpPr/>
          <p:nvPr/>
        </p:nvGrpSpPr>
        <p:grpSpPr>
          <a:xfrm>
            <a:off x="5765760" y="1726200"/>
            <a:ext cx="2666880" cy="839160"/>
            <a:chOff x="5765760" y="1726200"/>
            <a:chExt cx="2666880" cy="839160"/>
          </a:xfrm>
        </p:grpSpPr>
        <p:sp>
          <p:nvSpPr>
            <p:cNvPr id="211" name="Text Box 15"/>
            <p:cNvSpPr/>
            <p:nvPr/>
          </p:nvSpPr>
          <p:spPr>
            <a:xfrm>
              <a:off x="5765760" y="172620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Membrana semipermeable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7099200" y="1994040"/>
              <a:ext cx="0" cy="57132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13" name="AutoShape 17"/>
          <p:cNvSpPr/>
          <p:nvPr/>
        </p:nvSpPr>
        <p:spPr>
          <a:xfrm>
            <a:off x="4038480" y="2984400"/>
            <a:ext cx="1219320" cy="1067040"/>
          </a:xfrm>
          <a:custGeom>
            <a:avLst/>
            <a:gdLst>
              <a:gd name="textAreaLeft" fmla="*/ 190440 w 1219320"/>
              <a:gd name="textAreaRight" fmla="*/ 1007640 w 1219320"/>
              <a:gd name="textAreaTop" fmla="*/ 311040 h 1067040"/>
              <a:gd name="textAreaBottom" fmla="*/ 756000 h 1067040"/>
            </a:gdLst>
            <a:ahLst/>
            <a:rect l="textAreaLeft" t="textAreaTop" r="textAreaRight" b="textAreaBottom"/>
            <a:pathLst>
              <a:path w="21600" h="21600">
                <a:moveTo>
                  <a:pt x="12600" y="0"/>
                </a:moveTo>
                <a:lnTo>
                  <a:pt x="12600" y="6300"/>
                </a:lnTo>
                <a:lnTo>
                  <a:pt x="3375" y="6300"/>
                </a:lnTo>
                <a:lnTo>
                  <a:pt x="3375" y="15300"/>
                </a:lnTo>
                <a:lnTo>
                  <a:pt x="12600" y="15300"/>
                </a:lnTo>
                <a:lnTo>
                  <a:pt x="12600" y="21600"/>
                </a:lnTo>
                <a:lnTo>
                  <a:pt x="21600" y="10800"/>
                </a:lnTo>
                <a:lnTo>
                  <a:pt x="12600" y="0"/>
                </a:lnTo>
                <a:close/>
              </a:path>
              <a:path w="21600" h="21600">
                <a:moveTo>
                  <a:pt x="1350" y="6300"/>
                </a:moveTo>
                <a:lnTo>
                  <a:pt x="1350" y="15300"/>
                </a:lnTo>
                <a:lnTo>
                  <a:pt x="2700" y="15300"/>
                </a:lnTo>
                <a:lnTo>
                  <a:pt x="2700" y="6300"/>
                </a:lnTo>
                <a:lnTo>
                  <a:pt x="1350" y="6300"/>
                </a:lnTo>
                <a:close/>
              </a:path>
              <a:path w="21600" h="21600">
                <a:moveTo>
                  <a:pt x="0" y="6300"/>
                </a:moveTo>
                <a:lnTo>
                  <a:pt x="0" y="15300"/>
                </a:lnTo>
                <a:lnTo>
                  <a:pt x="675" y="15300"/>
                </a:lnTo>
                <a:lnTo>
                  <a:pt x="675" y="6300"/>
                </a:lnTo>
                <a:lnTo>
                  <a:pt x="0" y="6300"/>
                </a:lnTo>
                <a:close/>
              </a:path>
            </a:pathLst>
          </a:custGeom>
          <a:gradFill rotWithShape="0">
            <a:gsLst>
              <a:gs pos="0">
                <a:srgbClr val="e7ffdb"/>
              </a:gs>
              <a:gs pos="100000">
                <a:srgbClr val="99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289320" y="1083600"/>
            <a:ext cx="2438280" cy="791640"/>
          </a:xfrm>
          <a:prstGeom prst="wedgeRoundRectCallout">
            <a:avLst>
              <a:gd name="adj1" fmla="val -54351"/>
              <a:gd name="adj2" fmla="val 67226"/>
              <a:gd name="adj3" fmla="val 16667"/>
            </a:avLst>
          </a:prstGeom>
          <a:solidFill>
            <a:srgbClr val="fefcb8"/>
          </a:solidFill>
          <a:ln w="19080">
            <a:solidFill>
              <a:srgbClr val="a9a5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ermite el paso de disolventes pero no            de soluto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1879560" y="3441600"/>
            <a:ext cx="457200" cy="838440"/>
            <a:chOff x="1879560" y="3441600"/>
            <a:chExt cx="457200" cy="838440"/>
          </a:xfrm>
        </p:grpSpPr>
        <p:sp>
          <p:nvSpPr>
            <p:cNvPr id="216" name="Line 20"/>
            <p:cNvSpPr/>
            <p:nvPr/>
          </p:nvSpPr>
          <p:spPr>
            <a:xfrm>
              <a:off x="1879560" y="3441600"/>
              <a:ext cx="457200" cy="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1879560" y="4000680"/>
              <a:ext cx="457200" cy="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8" name="Line 22"/>
            <p:cNvSpPr/>
            <p:nvPr/>
          </p:nvSpPr>
          <p:spPr>
            <a:xfrm>
              <a:off x="1879560" y="4280040"/>
              <a:ext cx="457200" cy="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>
              <a:off x="1879560" y="3670200"/>
              <a:ext cx="457200" cy="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20" name="Text Box 24"/>
          <p:cNvSpPr/>
          <p:nvPr/>
        </p:nvSpPr>
        <p:spPr>
          <a:xfrm>
            <a:off x="539640" y="5589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Presión osmótica: presión que habría que ejercer para evitar el paso de agua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t3-4b1"/>
          <p:cNvPicPr/>
          <p:nvPr/>
        </p:nvPicPr>
        <p:blipFill>
          <a:blip r:embed="rId1"/>
          <a:stretch/>
        </p:blipFill>
        <p:spPr>
          <a:xfrm>
            <a:off x="3138480" y="1397160"/>
            <a:ext cx="1585800" cy="2151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t3-4b2"/>
          <p:cNvPicPr/>
          <p:nvPr/>
        </p:nvPicPr>
        <p:blipFill>
          <a:blip r:embed="rId2"/>
          <a:srcRect l="0" t="3343" r="0" b="3416"/>
          <a:stretch/>
        </p:blipFill>
        <p:spPr>
          <a:xfrm>
            <a:off x="6659640" y="1601640"/>
            <a:ext cx="1339920" cy="2130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t3-4b3"/>
          <p:cNvPicPr/>
          <p:nvPr/>
        </p:nvPicPr>
        <p:blipFill>
          <a:blip r:embed="rId3"/>
          <a:stretch/>
        </p:blipFill>
        <p:spPr>
          <a:xfrm>
            <a:off x="2986200" y="3848040"/>
            <a:ext cx="2058840" cy="2197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t3-4b4"/>
          <p:cNvPicPr/>
          <p:nvPr/>
        </p:nvPicPr>
        <p:blipFill>
          <a:blip r:embed="rId4"/>
          <a:stretch/>
        </p:blipFill>
        <p:spPr>
          <a:xfrm>
            <a:off x="7164360" y="3967200"/>
            <a:ext cx="1293840" cy="22096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5435640" y="190296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Arial"/>
              </a:rPr>
              <a:t>PLASMÓLISIS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La membrana plasmática se separa de la pared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700200" y="2035440"/>
            <a:ext cx="1752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Disminuye el volumen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Aumenta la presión osmótica en el interio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27" name="Group 10"/>
          <p:cNvGrpSpPr/>
          <p:nvPr/>
        </p:nvGrpSpPr>
        <p:grpSpPr>
          <a:xfrm>
            <a:off x="2814480" y="1795680"/>
            <a:ext cx="2227320" cy="1429920"/>
            <a:chOff x="2814480" y="1795680"/>
            <a:chExt cx="2227320" cy="1429920"/>
          </a:xfrm>
        </p:grpSpPr>
        <p:sp>
          <p:nvSpPr>
            <p:cNvPr id="228" name="Line 11"/>
            <p:cNvSpPr/>
            <p:nvPr/>
          </p:nvSpPr>
          <p:spPr>
            <a:xfrm flipH="1">
              <a:off x="2833560" y="2616120"/>
              <a:ext cx="533520" cy="2286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 flipH="1" flipV="1">
              <a:off x="2814480" y="2145960"/>
              <a:ext cx="571320" cy="1018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 flipV="1">
              <a:off x="4408920" y="1795680"/>
              <a:ext cx="589320" cy="17352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>
              <a:off x="4357440" y="2997000"/>
              <a:ext cx="533520" cy="2286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2" name="Line 15"/>
            <p:cNvSpPr/>
            <p:nvPr/>
          </p:nvSpPr>
          <p:spPr>
            <a:xfrm flipV="1">
              <a:off x="4511160" y="2384280"/>
              <a:ext cx="530640" cy="2350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33" name="Text Box 16"/>
          <p:cNvSpPr/>
          <p:nvPr/>
        </p:nvSpPr>
        <p:spPr>
          <a:xfrm>
            <a:off x="623880" y="17006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El agua sale de la célul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23880" y="42152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El agua entra en la célul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700200" y="4431960"/>
            <a:ext cx="175248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Aumenta el volumen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Disminuye la presión osmótica en el interio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Hemólisi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5576760" y="467172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Arial"/>
              </a:rPr>
              <a:t>TURGENCIA</a:t>
            </a:r>
            <a:br>
              <a:rPr sz="1400"/>
            </a:b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La célula se hincha hasta el límite de la pared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37" name="Group 20"/>
          <p:cNvGrpSpPr/>
          <p:nvPr/>
        </p:nvGrpSpPr>
        <p:grpSpPr>
          <a:xfrm>
            <a:off x="395280" y="1244520"/>
            <a:ext cx="7658280" cy="2438280"/>
            <a:chOff x="395280" y="1244520"/>
            <a:chExt cx="7658280" cy="2438280"/>
          </a:xfrm>
        </p:grpSpPr>
        <p:sp>
          <p:nvSpPr>
            <p:cNvPr id="238" name="Text Box 21"/>
            <p:cNvSpPr/>
            <p:nvPr/>
          </p:nvSpPr>
          <p:spPr>
            <a:xfrm>
              <a:off x="593280" y="1364760"/>
              <a:ext cx="27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EDIO HIPERTÓNICO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39" name="AutoShape 22"/>
            <p:cNvSpPr/>
            <p:nvPr/>
          </p:nvSpPr>
          <p:spPr>
            <a:xfrm>
              <a:off x="395280" y="1244520"/>
              <a:ext cx="7658280" cy="2438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a9a5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40" name="Group 23"/>
          <p:cNvGrpSpPr/>
          <p:nvPr/>
        </p:nvGrpSpPr>
        <p:grpSpPr>
          <a:xfrm>
            <a:off x="395280" y="3759120"/>
            <a:ext cx="7921800" cy="2438280"/>
            <a:chOff x="395280" y="3759120"/>
            <a:chExt cx="7921800" cy="2438280"/>
          </a:xfrm>
        </p:grpSpPr>
        <p:sp>
          <p:nvSpPr>
            <p:cNvPr id="241" name="Text Box 24"/>
            <p:cNvSpPr/>
            <p:nvPr/>
          </p:nvSpPr>
          <p:spPr>
            <a:xfrm>
              <a:off x="600120" y="3879360"/>
              <a:ext cx="279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EDIO HIPOTÓNICO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2" name="AutoShape 25"/>
            <p:cNvSpPr/>
            <p:nvPr/>
          </p:nvSpPr>
          <p:spPr>
            <a:xfrm>
              <a:off x="395280" y="3759120"/>
              <a:ext cx="7921800" cy="2438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a9a5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43" name="Group 26"/>
          <p:cNvGrpSpPr/>
          <p:nvPr/>
        </p:nvGrpSpPr>
        <p:grpSpPr>
          <a:xfrm>
            <a:off x="2854800" y="4140360"/>
            <a:ext cx="2481480" cy="1790640"/>
            <a:chOff x="2854800" y="4140360"/>
            <a:chExt cx="2481480" cy="1790640"/>
          </a:xfrm>
        </p:grpSpPr>
        <p:sp>
          <p:nvSpPr>
            <p:cNvPr id="244" name="Line 27"/>
            <p:cNvSpPr/>
            <p:nvPr/>
          </p:nvSpPr>
          <p:spPr>
            <a:xfrm>
              <a:off x="2909880" y="4825800"/>
              <a:ext cx="609480" cy="15192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5" name="Line 28"/>
            <p:cNvSpPr/>
            <p:nvPr/>
          </p:nvSpPr>
          <p:spPr>
            <a:xfrm flipH="1">
              <a:off x="4510080" y="4140360"/>
              <a:ext cx="457200" cy="3045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6" name="Line 29"/>
            <p:cNvSpPr/>
            <p:nvPr/>
          </p:nvSpPr>
          <p:spPr>
            <a:xfrm flipH="1" flipV="1">
              <a:off x="4642560" y="5421960"/>
              <a:ext cx="487440" cy="2296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7" name="Line 30"/>
            <p:cNvSpPr/>
            <p:nvPr/>
          </p:nvSpPr>
          <p:spPr>
            <a:xfrm flipV="1">
              <a:off x="3117600" y="5548320"/>
              <a:ext cx="498240" cy="3826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8" name="Line 31"/>
            <p:cNvSpPr/>
            <p:nvPr/>
          </p:nvSpPr>
          <p:spPr>
            <a:xfrm flipV="1">
              <a:off x="2854800" y="5278680"/>
              <a:ext cx="586080" cy="1828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49" name="Line 32"/>
            <p:cNvSpPr/>
            <p:nvPr/>
          </p:nvSpPr>
          <p:spPr>
            <a:xfrm flipH="1">
              <a:off x="4749840" y="4772160"/>
              <a:ext cx="586440" cy="1828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182872"/>
          <p:cNvPicPr/>
          <p:nvPr/>
        </p:nvPicPr>
        <p:blipFill>
          <a:blip r:embed="rId1"/>
          <a:stretch/>
        </p:blipFill>
        <p:spPr>
          <a:xfrm>
            <a:off x="4427640" y="4797360"/>
            <a:ext cx="2514600" cy="10573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971640" y="828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2b20"/>
                </a:solidFill>
                <a:latin typeface="Arial"/>
              </a:rPr>
              <a:t>Todos los seres vivos están obligados a regular la presión osmótica. Los distintos grupos han desarrollado estrategias diferentes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4559400" y="416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2f2b20"/>
                </a:solidFill>
                <a:latin typeface="Arial"/>
              </a:rPr>
              <a:t>Peces de agua dulce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800280" y="416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2f2b20"/>
                </a:solidFill>
                <a:latin typeface="Arial"/>
              </a:rPr>
              <a:t>Peces marino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6694560" y="41644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2f2b20"/>
                </a:solidFill>
                <a:latin typeface="Arial"/>
              </a:rPr>
              <a:t>Mamífero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198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rocariota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56" name="Picture 10" descr="t3-4c"/>
          <p:cNvPicPr/>
          <p:nvPr/>
        </p:nvPicPr>
        <p:blipFill>
          <a:blip r:embed="rId2"/>
          <a:stretch/>
        </p:blipFill>
        <p:spPr>
          <a:xfrm>
            <a:off x="4067280" y="1844640"/>
            <a:ext cx="2361960" cy="10396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1"/>
          <p:cNvSpPr/>
          <p:nvPr/>
        </p:nvSpPr>
        <p:spPr>
          <a:xfrm>
            <a:off x="7020000" y="2201400"/>
            <a:ext cx="1414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ared celular 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Estoma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258" name="Picture 12" descr="t3-4c2"/>
          <p:cNvPicPr/>
          <p:nvPr/>
        </p:nvPicPr>
        <p:blipFill>
          <a:blip r:embed="rId3"/>
          <a:stretch/>
        </p:blipFill>
        <p:spPr>
          <a:xfrm>
            <a:off x="900000" y="4797360"/>
            <a:ext cx="2686320" cy="9954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3"/>
          <p:cNvSpPr/>
          <p:nvPr/>
        </p:nvSpPr>
        <p:spPr>
          <a:xfrm>
            <a:off x="3995640" y="458064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Entrada de agua (ósmosis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5702400" y="5645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Abundante orina hipotónic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723960" y="4601520"/>
            <a:ext cx="24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Pérdida de agua (ósmosis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2268360" y="5660280"/>
            <a:ext cx="166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Orina hipertónica escas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952560" y="5714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Excreta el exceso de sal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3873600" y="509688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No bebe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266760" y="498240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Bebe agua salad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2340000" y="1987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ared cel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68360" y="2491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Dulceacuícola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2340000" y="2491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Vacuolas pulsátile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>
            <a:off x="1476360" y="2205000"/>
            <a:ext cx="914400" cy="0"/>
          </a:xfrm>
          <a:prstGeom prst="line">
            <a:avLst/>
          </a:prstGeom>
          <a:ln w="12600">
            <a:solidFill>
              <a:srgbClr val="675e47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0" name="Line 24"/>
          <p:cNvSpPr/>
          <p:nvPr/>
        </p:nvSpPr>
        <p:spPr>
          <a:xfrm>
            <a:off x="1763640" y="2637000"/>
            <a:ext cx="609840" cy="0"/>
          </a:xfrm>
          <a:prstGeom prst="line">
            <a:avLst/>
          </a:prstGeom>
          <a:ln w="12600">
            <a:solidFill>
              <a:srgbClr val="675e47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304040" y="4506840"/>
            <a:ext cx="14479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Riñones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Intestino grueso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Piel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95280" y="1557360"/>
            <a:ext cx="6400800" cy="1523880"/>
            <a:chOff x="395280" y="1557360"/>
            <a:chExt cx="6400800" cy="1523880"/>
          </a:xfrm>
        </p:grpSpPr>
        <p:sp>
          <p:nvSpPr>
            <p:cNvPr id="273" name="Text Box 27"/>
            <p:cNvSpPr/>
            <p:nvPr/>
          </p:nvSpPr>
          <p:spPr>
            <a:xfrm>
              <a:off x="420840" y="1632600"/>
              <a:ext cx="29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2f2b20"/>
                  </a:solidFill>
                  <a:latin typeface="Arial"/>
                </a:rPr>
                <a:t>SERES VIVOS UNICELULARES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74" name="AutoShape 28"/>
            <p:cNvSpPr/>
            <p:nvPr/>
          </p:nvSpPr>
          <p:spPr>
            <a:xfrm>
              <a:off x="395280" y="1557360"/>
              <a:ext cx="6400800" cy="1523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250920" y="3500280"/>
            <a:ext cx="8609040" cy="2666880"/>
            <a:chOff x="250920" y="3500280"/>
            <a:chExt cx="8609040" cy="2666880"/>
          </a:xfrm>
        </p:grpSpPr>
        <p:sp>
          <p:nvSpPr>
            <p:cNvPr id="276" name="Text Box 30"/>
            <p:cNvSpPr/>
            <p:nvPr/>
          </p:nvSpPr>
          <p:spPr>
            <a:xfrm>
              <a:off x="263520" y="3664440"/>
              <a:ext cx="29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2f2b20"/>
                  </a:solidFill>
                  <a:latin typeface="Arial"/>
                </a:rPr>
                <a:t>ANIMALES PLURICELULARES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77" name="AutoShape 31"/>
            <p:cNvSpPr/>
            <p:nvPr/>
          </p:nvSpPr>
          <p:spPr>
            <a:xfrm>
              <a:off x="250920" y="3500280"/>
              <a:ext cx="8609040" cy="2666880"/>
            </a:xfrm>
            <a:prstGeom prst="roundRect">
              <a:avLst>
                <a:gd name="adj" fmla="val 6944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78" name="Group 32"/>
          <p:cNvGrpSpPr/>
          <p:nvPr/>
        </p:nvGrpSpPr>
        <p:grpSpPr>
          <a:xfrm>
            <a:off x="6877080" y="1628640"/>
            <a:ext cx="1887120" cy="1295640"/>
            <a:chOff x="6877080" y="1628640"/>
            <a:chExt cx="1887120" cy="1295640"/>
          </a:xfrm>
        </p:grpSpPr>
        <p:sp>
          <p:nvSpPr>
            <p:cNvPr id="279" name="Text Box 33"/>
            <p:cNvSpPr/>
            <p:nvPr/>
          </p:nvSpPr>
          <p:spPr>
            <a:xfrm>
              <a:off x="6877080" y="1724760"/>
              <a:ext cx="133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2f2b20"/>
                  </a:solidFill>
                  <a:latin typeface="Arial"/>
                </a:rPr>
                <a:t>VEGETALES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80" name="AutoShape 34"/>
            <p:cNvSpPr/>
            <p:nvPr/>
          </p:nvSpPr>
          <p:spPr>
            <a:xfrm>
              <a:off x="6878520" y="1628640"/>
              <a:ext cx="1885680" cy="1295640"/>
            </a:xfrm>
            <a:prstGeom prst="roundRect">
              <a:avLst>
                <a:gd name="adj" fmla="val 6944"/>
              </a:avLst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81" name="Group 35"/>
          <p:cNvGrpSpPr/>
          <p:nvPr/>
        </p:nvGrpSpPr>
        <p:grpSpPr>
          <a:xfrm>
            <a:off x="3995640" y="1916280"/>
            <a:ext cx="1214280" cy="791640"/>
            <a:chOff x="3995640" y="1916280"/>
            <a:chExt cx="1214280" cy="791640"/>
          </a:xfrm>
        </p:grpSpPr>
        <p:sp>
          <p:nvSpPr>
            <p:cNvPr id="282" name="Oval 36"/>
            <p:cNvSpPr/>
            <p:nvPr/>
          </p:nvSpPr>
          <p:spPr>
            <a:xfrm>
              <a:off x="4602960" y="1916280"/>
              <a:ext cx="606960" cy="49464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83" name="Line 37"/>
            <p:cNvSpPr/>
            <p:nvPr/>
          </p:nvSpPr>
          <p:spPr>
            <a:xfrm flipV="1">
              <a:off x="3995640" y="2213280"/>
              <a:ext cx="607320" cy="494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84" name="Text Box 38"/>
          <p:cNvSpPr/>
          <p:nvPr/>
        </p:nvSpPr>
        <p:spPr>
          <a:xfrm>
            <a:off x="1547640" y="33336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OSMORREGULACIÓN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istema periodico"/>
          <p:cNvPicPr/>
          <p:nvPr/>
        </p:nvPicPr>
        <p:blipFill>
          <a:blip r:embed="rId1"/>
          <a:stretch/>
        </p:blipFill>
        <p:spPr>
          <a:xfrm>
            <a:off x="2843280" y="649440"/>
            <a:ext cx="5618160" cy="426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24000" y="4941720"/>
            <a:ext cx="763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Primarios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: 99% de la materia viva. C, H, O, N, P y 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49a0a"/>
                </a:solidFill>
                <a:latin typeface="Arial"/>
              </a:rPr>
              <a:t>Secundarios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: En todos los organismos, pero menor proporción. Na, K, Ca, Mg, Cl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Oligoelementos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: 0,1% de la materia viva, pero a menudo esenciales: Fe, Cu, Zn, Mn, Al, Si…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52360" y="1557360"/>
            <a:ext cx="2733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f2b20"/>
                </a:solidFill>
                <a:latin typeface="Arial"/>
              </a:rPr>
              <a:t>Son los elementos químicos que forman parte de la materia de los seres vivos</a:t>
            </a: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Hay 70 diferentes, de los que 25 están en todos los seres vivos. El resto sólo aparece en determinados grupos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Se clasifican según la proporción en que se encuentran en la materia viva: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24000" y="33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cbebd"/>
                </a:solidFill>
                <a:latin typeface="Arial"/>
              </a:rPr>
              <a:t>BIOELEMENTOS O ELEMENTOS BIOGÉNICOS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Cambria"/>
              </a:rPr>
              <a:t>EL CARBONO. PROPIEDADES QUE LE HACEN IDÓNEO PARA CONSTITUIR LOS SERES VIVOS</a:t>
            </a:r>
            <a:endParaRPr b="0" lang="en-US" sz="2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11280" y="1557360"/>
            <a:ext cx="7489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●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Se localiza en el grupo 14 del sistema periódico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● </a:t>
            </a:r>
            <a:r>
              <a:rPr b="1" lang="es-ES" sz="1800" spc="-1" strike="noStrike">
                <a:solidFill>
                  <a:srgbClr val="9cbebd"/>
                </a:solidFill>
                <a:latin typeface="Arial"/>
              </a:rPr>
              <a:t>Número atómico: 6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. Por lo tanto tiene </a:t>
            </a: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4 electrones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 desapareados en su capa externa. Se pueden formar 4 enlaces covalentes con otros carbonos, dando lugar a cadenas estables o  se pueden formar enlaces covalentes con otros átomos distintos, dando lugar a distintos grupos funcionales.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● </a:t>
            </a: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Su pequeño tamaño permite la formación de </a:t>
            </a: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cadenas larga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4360" y="4076640"/>
            <a:ext cx="7127640" cy="1334160"/>
          </a:xfrm>
          <a:prstGeom prst="rect">
            <a:avLst/>
          </a:prstGeom>
          <a:noFill/>
          <a:ln w="93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GRUPOS FUNCIONALE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2b20"/>
                </a:solidFill>
                <a:latin typeface="Arial"/>
              </a:rPr>
              <a:t>Conjunto de átomos unidos de forma determinada que proporciona a las moléculas en que se encuentra, unas propiedades característica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grupos funcionales"/>
          <p:cNvPicPr/>
          <p:nvPr/>
        </p:nvPicPr>
        <p:blipFill>
          <a:blip r:embed="rId1"/>
          <a:stretch/>
        </p:blipFill>
        <p:spPr>
          <a:xfrm>
            <a:off x="2050920" y="260280"/>
            <a:ext cx="5158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mbria"/>
              </a:rPr>
              <a:t>BIOMOLÉCULAS O PRINCIPIOS INMEDIATO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Son las moléculas que forman parte de los seres vivo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2957400"/>
            <a:ext cx="6303960" cy="2470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012000" y="2924280"/>
            <a:ext cx="3132000" cy="919440"/>
          </a:xfrm>
          <a:prstGeom prst="rect">
            <a:avLst/>
          </a:prstGeom>
          <a:solidFill>
            <a:srgbClr val="ffcc0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f2b20"/>
                </a:solidFill>
                <a:latin typeface="Arial"/>
              </a:rPr>
              <a:t>Átomos unidos por enlace iónico (sales minerales) o covalente (agua).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f2b20"/>
                </a:solidFill>
                <a:latin typeface="Arial"/>
              </a:rPr>
              <a:t>Biomoléculas no exclusivas de la materia viv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157800" y="4076640"/>
            <a:ext cx="2806920" cy="946440"/>
          </a:xfrm>
          <a:prstGeom prst="rect">
            <a:avLst/>
          </a:prstGeom>
          <a:solidFill>
            <a:srgbClr val="ffcc0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f2b20"/>
                </a:solidFill>
                <a:latin typeface="Arial"/>
              </a:rPr>
              <a:t>Átomos unidos por enlace covalente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f2b20"/>
                </a:solidFill>
                <a:latin typeface="Arial"/>
              </a:rPr>
              <a:t>Biomoléculas  exclusivas de la materia viva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t3-1b"/>
          <p:cNvPicPr/>
          <p:nvPr/>
        </p:nvPicPr>
        <p:blipFill>
          <a:blip r:embed="rId1"/>
          <a:stretch/>
        </p:blipFill>
        <p:spPr>
          <a:xfrm>
            <a:off x="2556000" y="3716280"/>
            <a:ext cx="6095880" cy="274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t3-1a"/>
          <p:cNvPicPr/>
          <p:nvPr/>
        </p:nvPicPr>
        <p:blipFill>
          <a:blip r:embed="rId2"/>
          <a:stretch/>
        </p:blipFill>
        <p:spPr>
          <a:xfrm>
            <a:off x="468360" y="1773360"/>
            <a:ext cx="3110040" cy="196056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1359000" y="2806560"/>
            <a:ext cx="1218960" cy="1410840"/>
            <a:chOff x="1359000" y="2806560"/>
            <a:chExt cx="1218960" cy="1410840"/>
          </a:xfrm>
        </p:grpSpPr>
        <p:sp>
          <p:nvSpPr>
            <p:cNvPr id="68" name="Line 7"/>
            <p:cNvSpPr/>
            <p:nvPr/>
          </p:nvSpPr>
          <p:spPr>
            <a:xfrm flipH="1">
              <a:off x="1803240" y="2806560"/>
              <a:ext cx="532800" cy="9903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1359000" y="375840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f2b20"/>
                  </a:solidFill>
                  <a:latin typeface="Arial"/>
                </a:rPr>
                <a:t>Enlace covalente</a:t>
              </a:r>
              <a:endParaRPr b="0" lang="en-US" sz="12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70" name="Text Box 9"/>
          <p:cNvSpPr/>
          <p:nvPr/>
        </p:nvSpPr>
        <p:spPr>
          <a:xfrm>
            <a:off x="3403440" y="3293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f2b2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422360" y="3140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f2b2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30000">
                <a:solidFill>
                  <a:srgbClr val="2f2b2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717640" y="1311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f2b2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30000">
                <a:solidFill>
                  <a:srgbClr val="2f2b2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812880" y="2502000"/>
            <a:ext cx="838080" cy="1434240"/>
            <a:chOff x="812880" y="2502000"/>
            <a:chExt cx="838080" cy="1434240"/>
          </a:xfrm>
        </p:grpSpPr>
        <p:sp>
          <p:nvSpPr>
            <p:cNvPr id="74" name="Text Box 13"/>
            <p:cNvSpPr/>
            <p:nvPr/>
          </p:nvSpPr>
          <p:spPr>
            <a:xfrm>
              <a:off x="965160" y="35679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2f2b2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 flipH="1">
              <a:off x="1193760" y="2502000"/>
              <a:ext cx="457200" cy="11430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 flipH="1" flipV="1">
              <a:off x="812880" y="3187800"/>
              <a:ext cx="380880" cy="4572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7" name="Group 16"/>
          <p:cNvGrpSpPr/>
          <p:nvPr/>
        </p:nvGrpSpPr>
        <p:grpSpPr>
          <a:xfrm>
            <a:off x="812880" y="1328040"/>
            <a:ext cx="457200" cy="716760"/>
            <a:chOff x="812880" y="1328040"/>
            <a:chExt cx="457200" cy="716760"/>
          </a:xfrm>
        </p:grpSpPr>
        <p:sp>
          <p:nvSpPr>
            <p:cNvPr id="78" name="Text Box 17"/>
            <p:cNvSpPr/>
            <p:nvPr/>
          </p:nvSpPr>
          <p:spPr>
            <a:xfrm>
              <a:off x="812880" y="1328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2f2b2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9" name="Line 18"/>
            <p:cNvSpPr/>
            <p:nvPr/>
          </p:nvSpPr>
          <p:spPr>
            <a:xfrm>
              <a:off x="1041480" y="1663920"/>
              <a:ext cx="152280" cy="38088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80" name="Text Box 19"/>
          <p:cNvSpPr/>
          <p:nvPr/>
        </p:nvSpPr>
        <p:spPr>
          <a:xfrm>
            <a:off x="3492360" y="1482840"/>
            <a:ext cx="5651640" cy="733320"/>
          </a:xfrm>
          <a:prstGeom prst="rect">
            <a:avLst/>
          </a:prstGeom>
          <a:solidFill>
            <a:srgbClr val="fef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Aunque es eléctricamente neutra, la molécula de agua tiene carácter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polar</a:t>
            </a: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 debido a un exceso de carga negativa sobre el átomo de oxígen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81" name="Group 20"/>
          <p:cNvGrpSpPr/>
          <p:nvPr/>
        </p:nvGrpSpPr>
        <p:grpSpPr>
          <a:xfrm>
            <a:off x="7494480" y="5349600"/>
            <a:ext cx="260640" cy="459360"/>
            <a:chOff x="7494480" y="5349600"/>
            <a:chExt cx="260640" cy="459360"/>
          </a:xfrm>
        </p:grpSpPr>
        <p:sp>
          <p:nvSpPr>
            <p:cNvPr id="82" name="Line 21"/>
            <p:cNvSpPr/>
            <p:nvPr/>
          </p:nvSpPr>
          <p:spPr>
            <a:xfrm flipV="1">
              <a:off x="7509600" y="539028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 flipV="1">
              <a:off x="7525440" y="543240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 flipV="1">
              <a:off x="7541280" y="547488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 flipV="1">
              <a:off x="7557120" y="551736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6" name="Line 25"/>
            <p:cNvSpPr/>
            <p:nvPr/>
          </p:nvSpPr>
          <p:spPr>
            <a:xfrm flipV="1">
              <a:off x="7572960" y="5559840"/>
              <a:ext cx="103680" cy="38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7588080" y="5600880"/>
              <a:ext cx="10404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8" name="Line 27"/>
            <p:cNvSpPr/>
            <p:nvPr/>
          </p:nvSpPr>
          <p:spPr>
            <a:xfrm flipV="1">
              <a:off x="7603920" y="5643360"/>
              <a:ext cx="10404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 flipV="1">
              <a:off x="7619760" y="5685480"/>
              <a:ext cx="10368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 flipV="1">
              <a:off x="7635600" y="5727960"/>
              <a:ext cx="10368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1" name="Line 30"/>
            <p:cNvSpPr/>
            <p:nvPr/>
          </p:nvSpPr>
          <p:spPr>
            <a:xfrm flipV="1">
              <a:off x="7651440" y="5770440"/>
              <a:ext cx="10368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2" name="Line 31"/>
            <p:cNvSpPr/>
            <p:nvPr/>
          </p:nvSpPr>
          <p:spPr>
            <a:xfrm flipV="1">
              <a:off x="7494480" y="5349600"/>
              <a:ext cx="103680" cy="3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93" name="Group 32"/>
          <p:cNvGrpSpPr/>
          <p:nvPr/>
        </p:nvGrpSpPr>
        <p:grpSpPr>
          <a:xfrm>
            <a:off x="7079400" y="4442400"/>
            <a:ext cx="245160" cy="386280"/>
            <a:chOff x="7079400" y="4442400"/>
            <a:chExt cx="245160" cy="386280"/>
          </a:xfrm>
        </p:grpSpPr>
        <p:sp>
          <p:nvSpPr>
            <p:cNvPr id="94" name="Line 33"/>
            <p:cNvSpPr/>
            <p:nvPr/>
          </p:nvSpPr>
          <p:spPr>
            <a:xfrm flipV="1">
              <a:off x="7091640" y="447588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5" name="Line 34"/>
            <p:cNvSpPr/>
            <p:nvPr/>
          </p:nvSpPr>
          <p:spPr>
            <a:xfrm flipV="1">
              <a:off x="7104600" y="4510080"/>
              <a:ext cx="117360" cy="4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6" name="Line 35"/>
            <p:cNvSpPr/>
            <p:nvPr/>
          </p:nvSpPr>
          <p:spPr>
            <a:xfrm flipV="1">
              <a:off x="7117560" y="454464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7" name="Line 36"/>
            <p:cNvSpPr/>
            <p:nvPr/>
          </p:nvSpPr>
          <p:spPr>
            <a:xfrm flipV="1">
              <a:off x="7130160" y="4579200"/>
              <a:ext cx="117360" cy="4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8" name="Line 37"/>
            <p:cNvSpPr/>
            <p:nvPr/>
          </p:nvSpPr>
          <p:spPr>
            <a:xfrm flipV="1">
              <a:off x="7143120" y="461340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99" name="Line 38"/>
            <p:cNvSpPr/>
            <p:nvPr/>
          </p:nvSpPr>
          <p:spPr>
            <a:xfrm flipV="1">
              <a:off x="7155720" y="464688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0" name="Line 39"/>
            <p:cNvSpPr/>
            <p:nvPr/>
          </p:nvSpPr>
          <p:spPr>
            <a:xfrm flipV="1">
              <a:off x="7168680" y="468144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1" name="Line 40"/>
            <p:cNvSpPr/>
            <p:nvPr/>
          </p:nvSpPr>
          <p:spPr>
            <a:xfrm flipV="1">
              <a:off x="7181280" y="471564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2" name="Line 41"/>
            <p:cNvSpPr/>
            <p:nvPr/>
          </p:nvSpPr>
          <p:spPr>
            <a:xfrm flipV="1">
              <a:off x="7194240" y="4750560"/>
              <a:ext cx="117360" cy="43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3" name="Line 42"/>
            <p:cNvSpPr/>
            <p:nvPr/>
          </p:nvSpPr>
          <p:spPr>
            <a:xfrm flipV="1">
              <a:off x="7207200" y="478476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4" name="Line 43"/>
            <p:cNvSpPr/>
            <p:nvPr/>
          </p:nvSpPr>
          <p:spPr>
            <a:xfrm flipV="1">
              <a:off x="7079400" y="4442400"/>
              <a:ext cx="117360" cy="4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7564320" y="4882320"/>
            <a:ext cx="312840" cy="178920"/>
            <a:chOff x="7564320" y="4882320"/>
            <a:chExt cx="312840" cy="178920"/>
          </a:xfrm>
        </p:grpSpPr>
        <p:sp>
          <p:nvSpPr>
            <p:cNvPr id="106" name="Line 45"/>
            <p:cNvSpPr/>
            <p:nvPr/>
          </p:nvSpPr>
          <p:spPr>
            <a:xfrm>
              <a:off x="7821720" y="488844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7" name="Line 46"/>
            <p:cNvSpPr/>
            <p:nvPr/>
          </p:nvSpPr>
          <p:spPr>
            <a:xfrm>
              <a:off x="7784640" y="489456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8" name="Line 47"/>
            <p:cNvSpPr/>
            <p:nvPr/>
          </p:nvSpPr>
          <p:spPr>
            <a:xfrm>
              <a:off x="7746840" y="489852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09" name="Line 48"/>
            <p:cNvSpPr/>
            <p:nvPr/>
          </p:nvSpPr>
          <p:spPr>
            <a:xfrm>
              <a:off x="7710840" y="490500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0" name="Line 49"/>
            <p:cNvSpPr/>
            <p:nvPr/>
          </p:nvSpPr>
          <p:spPr>
            <a:xfrm>
              <a:off x="7675200" y="491112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1" name="Line 50"/>
            <p:cNvSpPr/>
            <p:nvPr/>
          </p:nvSpPr>
          <p:spPr>
            <a:xfrm>
              <a:off x="7639560" y="491508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2" name="Line 51"/>
            <p:cNvSpPr/>
            <p:nvPr/>
          </p:nvSpPr>
          <p:spPr>
            <a:xfrm>
              <a:off x="7601760" y="492120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3" name="Line 52"/>
            <p:cNvSpPr/>
            <p:nvPr/>
          </p:nvSpPr>
          <p:spPr>
            <a:xfrm>
              <a:off x="7564320" y="492552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4" name="Line 53"/>
            <p:cNvSpPr/>
            <p:nvPr/>
          </p:nvSpPr>
          <p:spPr>
            <a:xfrm>
              <a:off x="7857720" y="4882320"/>
              <a:ext cx="19440" cy="135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15" name="Group 54"/>
          <p:cNvGrpSpPr/>
          <p:nvPr/>
        </p:nvGrpSpPr>
        <p:grpSpPr>
          <a:xfrm>
            <a:off x="6977520" y="5161320"/>
            <a:ext cx="223200" cy="215280"/>
            <a:chOff x="6977520" y="5161320"/>
            <a:chExt cx="223200" cy="215280"/>
          </a:xfrm>
        </p:grpSpPr>
        <p:sp>
          <p:nvSpPr>
            <p:cNvPr id="116" name="Line 55"/>
            <p:cNvSpPr/>
            <p:nvPr/>
          </p:nvSpPr>
          <p:spPr>
            <a:xfrm>
              <a:off x="7110360" y="518040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7" name="Line 56"/>
            <p:cNvSpPr/>
            <p:nvPr/>
          </p:nvSpPr>
          <p:spPr>
            <a:xfrm>
              <a:off x="7088400" y="519948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8" name="Line 57"/>
            <p:cNvSpPr/>
            <p:nvPr/>
          </p:nvSpPr>
          <p:spPr>
            <a:xfrm>
              <a:off x="7064640" y="522000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19" name="Line 58"/>
            <p:cNvSpPr/>
            <p:nvPr/>
          </p:nvSpPr>
          <p:spPr>
            <a:xfrm>
              <a:off x="7043760" y="523908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0" name="Line 59"/>
            <p:cNvSpPr/>
            <p:nvPr/>
          </p:nvSpPr>
          <p:spPr>
            <a:xfrm>
              <a:off x="7021440" y="525960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1" name="Line 60"/>
            <p:cNvSpPr/>
            <p:nvPr/>
          </p:nvSpPr>
          <p:spPr>
            <a:xfrm>
              <a:off x="6999480" y="527724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2" name="Line 61"/>
            <p:cNvSpPr/>
            <p:nvPr/>
          </p:nvSpPr>
          <p:spPr>
            <a:xfrm>
              <a:off x="6977520" y="529776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3" name="Line 62"/>
            <p:cNvSpPr/>
            <p:nvPr/>
          </p:nvSpPr>
          <p:spPr>
            <a:xfrm>
              <a:off x="7131240" y="5161320"/>
              <a:ext cx="69480" cy="7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24" name="Group 63"/>
          <p:cNvGrpSpPr/>
          <p:nvPr/>
        </p:nvGrpSpPr>
        <p:grpSpPr>
          <a:xfrm>
            <a:off x="7042320" y="4141440"/>
            <a:ext cx="1199520" cy="756360"/>
            <a:chOff x="7042320" y="4141440"/>
            <a:chExt cx="1199520" cy="756360"/>
          </a:xfrm>
        </p:grpSpPr>
        <p:sp>
          <p:nvSpPr>
            <p:cNvPr id="125" name="Text Box 64"/>
            <p:cNvSpPr/>
            <p:nvPr/>
          </p:nvSpPr>
          <p:spPr>
            <a:xfrm>
              <a:off x="7042320" y="41414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600" spc="-1" strike="noStrike" baseline="30000">
                  <a:solidFill>
                    <a:srgbClr val="2f2b2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7708680" y="4560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600" spc="-1" strike="noStrike" baseline="30000">
                  <a:solidFill>
                    <a:srgbClr val="2f2b2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264080" y="45352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2f2b20"/>
                  </a:solidFill>
                  <a:latin typeface="Symbol"/>
                  <a:ea typeface="Symbol"/>
                </a:rPr>
                <a:t></a:t>
              </a:r>
              <a:r>
                <a:rPr b="0" lang="es-ES_tradnl" sz="1600" spc="-1" strike="noStrike" baseline="30000">
                  <a:solidFill>
                    <a:srgbClr val="2f2b20"/>
                  </a:solidFill>
                  <a:latin typeface="Arial"/>
                </a:rPr>
                <a:t>- </a:t>
              </a:r>
              <a:endParaRPr b="0" lang="en-US" sz="1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28" name="Group 67"/>
          <p:cNvGrpSpPr/>
          <p:nvPr/>
        </p:nvGrpSpPr>
        <p:grpSpPr>
          <a:xfrm>
            <a:off x="5842080" y="4483800"/>
            <a:ext cx="1326960" cy="794520"/>
            <a:chOff x="5842080" y="4483800"/>
            <a:chExt cx="1326960" cy="794520"/>
          </a:xfrm>
        </p:grpSpPr>
        <p:sp>
          <p:nvSpPr>
            <p:cNvPr id="129" name="Text Box 68"/>
            <p:cNvSpPr/>
            <p:nvPr/>
          </p:nvSpPr>
          <p:spPr>
            <a:xfrm>
              <a:off x="5842080" y="44838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2f2b20"/>
                  </a:solidFill>
                  <a:latin typeface="Arial"/>
                </a:rPr>
                <a:t>Enlaces de hidrógeno</a:t>
              </a:r>
              <a:endParaRPr b="0" lang="en-US" sz="1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0" name="Line 69"/>
            <p:cNvSpPr/>
            <p:nvPr/>
          </p:nvSpPr>
          <p:spPr>
            <a:xfrm>
              <a:off x="6756480" y="4636800"/>
              <a:ext cx="412560" cy="381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31" name="Line 70"/>
            <p:cNvSpPr/>
            <p:nvPr/>
          </p:nvSpPr>
          <p:spPr>
            <a:xfrm>
              <a:off x="6756480" y="4636800"/>
              <a:ext cx="330120" cy="64152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32" name="Text Box 71"/>
          <p:cNvSpPr/>
          <p:nvPr/>
        </p:nvSpPr>
        <p:spPr>
          <a:xfrm>
            <a:off x="3632040" y="2280600"/>
            <a:ext cx="1155960" cy="459000"/>
          </a:xfrm>
          <a:prstGeom prst="rect">
            <a:avLst/>
          </a:prstGeom>
          <a:solidFill>
            <a:srgbClr val="cd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2b20"/>
                </a:solidFill>
                <a:latin typeface="Symbol"/>
                <a:ea typeface="Symbol"/>
              </a:rPr>
              <a:t></a:t>
            </a: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2f2b20"/>
                </a:solidFill>
                <a:latin typeface="Arial"/>
              </a:rPr>
              <a:t>= densidad de carga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Text Box 72"/>
          <p:cNvSpPr/>
          <p:nvPr/>
        </p:nvSpPr>
        <p:spPr>
          <a:xfrm>
            <a:off x="4775040" y="3110400"/>
            <a:ext cx="3886200" cy="520200"/>
          </a:xfrm>
          <a:prstGeom prst="rect">
            <a:avLst/>
          </a:prstGeom>
          <a:solidFill>
            <a:srgbClr val="fef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Debido a su polaridad, las moléculas de agua establecen enlaces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de hidrógeno</a:t>
            </a: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 entre ell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Rectangle 73"/>
          <p:cNvSpPr/>
          <p:nvPr/>
        </p:nvSpPr>
        <p:spPr>
          <a:xfrm>
            <a:off x="250920" y="620640"/>
            <a:ext cx="8569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f2b20"/>
                </a:solidFill>
                <a:latin typeface="Arial"/>
              </a:rPr>
              <a:t>EL AGUA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f2b20"/>
                </a:solidFill>
                <a:latin typeface="Arial"/>
              </a:rPr>
              <a:t>-Porcentaje variable en función de organismo, edad y tejid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f2b20"/>
                </a:solidFill>
                <a:latin typeface="Arial"/>
              </a:rPr>
              <a:t>- Agua exógena – endógena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Text Box 74"/>
          <p:cNvSpPr/>
          <p:nvPr/>
        </p:nvSpPr>
        <p:spPr>
          <a:xfrm>
            <a:off x="539640" y="630864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Confeccionar una tabla: Propiedad del agua – importancia biológica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beb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250920" y="260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2b20"/>
                </a:solidFill>
                <a:latin typeface="Arial"/>
              </a:rPr>
              <a:t>BIOMOLÉCULAS INORGÁNICAS: EL AGUA Y LAS SALES MINERALES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00040" y="1778040"/>
            <a:ext cx="3276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Da volumen a las célul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Turgencia en las plant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Esqueleto hidrostátic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Deformaciones citoplasmátic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Amortiguación en articulacione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0040" y="340236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Desplazamiento de algunos organismos sobre el agu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00040" y="43372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8760" indent="-158760"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Ascensión de la savia bruta por capilaridad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00040" y="5234400"/>
            <a:ext cx="28954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Función termorregulador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00040" y="5888520"/>
            <a:ext cx="28954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Permite la vida bajo el hiel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2" name="Picture 9" descr="t3-2a"/>
          <p:cNvPicPr/>
          <p:nvPr/>
        </p:nvPicPr>
        <p:blipFill>
          <a:blip r:embed="rId1"/>
          <a:stretch/>
        </p:blipFill>
        <p:spPr>
          <a:xfrm>
            <a:off x="3586320" y="1917720"/>
            <a:ext cx="5257800" cy="2860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4881600" y="5116320"/>
            <a:ext cx="3733920" cy="946440"/>
          </a:xfrm>
          <a:prstGeom prst="rect">
            <a:avLst/>
          </a:prstGeom>
          <a:solidFill>
            <a:srgbClr val="fef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2b20"/>
                </a:solidFill>
                <a:latin typeface="Arial"/>
              </a:rPr>
              <a:t>Las fuerzas de adhesión entre las moléculas de agua y el vidrio, son mayores que las de las moléculas de agua entre sí. Por esto el líquido asciende por las paredes del capilar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5491080" y="1573560"/>
            <a:ext cx="1447920" cy="801000"/>
            <a:chOff x="5491080" y="1573560"/>
            <a:chExt cx="1447920" cy="801000"/>
          </a:xfrm>
        </p:grpSpPr>
        <p:sp>
          <p:nvSpPr>
            <p:cNvPr id="145" name="Text Box 12"/>
            <p:cNvSpPr/>
            <p:nvPr/>
          </p:nvSpPr>
          <p:spPr>
            <a:xfrm>
              <a:off x="5491080" y="157356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Vidrio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6481800" y="1765080"/>
              <a:ext cx="228600" cy="60948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4043520" y="1855800"/>
            <a:ext cx="1447560" cy="941040"/>
            <a:chOff x="4043520" y="1855800"/>
            <a:chExt cx="1447560" cy="941040"/>
          </a:xfrm>
        </p:grpSpPr>
        <p:sp>
          <p:nvSpPr>
            <p:cNvPr id="148" name="Text Box 15"/>
            <p:cNvSpPr/>
            <p:nvPr/>
          </p:nvSpPr>
          <p:spPr>
            <a:xfrm>
              <a:off x="4043520" y="1855800"/>
              <a:ext cx="144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Capilar de vidrio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4576680" y="2222280"/>
              <a:ext cx="267840" cy="5745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50" name="Group 17"/>
          <p:cNvGrpSpPr/>
          <p:nvPr/>
        </p:nvGrpSpPr>
        <p:grpSpPr>
          <a:xfrm>
            <a:off x="5033880" y="3746160"/>
            <a:ext cx="1447920" cy="1175040"/>
            <a:chOff x="5033880" y="3746160"/>
            <a:chExt cx="1447920" cy="1175040"/>
          </a:xfrm>
        </p:grpSpPr>
        <p:sp>
          <p:nvSpPr>
            <p:cNvPr id="151" name="Text Box 18"/>
            <p:cNvSpPr/>
            <p:nvPr/>
          </p:nvSpPr>
          <p:spPr>
            <a:xfrm>
              <a:off x="5033880" y="440100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Moléculas de agua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 flipV="1">
              <a:off x="5948280" y="3746160"/>
              <a:ext cx="380880" cy="83844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3" name="Line 20"/>
            <p:cNvSpPr/>
            <p:nvPr/>
          </p:nvSpPr>
          <p:spPr>
            <a:xfrm flipV="1">
              <a:off x="5948280" y="4203360"/>
              <a:ext cx="533520" cy="38124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54" name="Group 21"/>
          <p:cNvGrpSpPr/>
          <p:nvPr/>
        </p:nvGrpSpPr>
        <p:grpSpPr>
          <a:xfrm>
            <a:off x="6786720" y="1063440"/>
            <a:ext cx="2181240" cy="1539360"/>
            <a:chOff x="6786720" y="1063440"/>
            <a:chExt cx="2181240" cy="1539360"/>
          </a:xfrm>
        </p:grpSpPr>
        <p:sp>
          <p:nvSpPr>
            <p:cNvPr id="155" name="Text Box 22"/>
            <p:cNvSpPr/>
            <p:nvPr/>
          </p:nvSpPr>
          <p:spPr>
            <a:xfrm>
              <a:off x="7901280" y="1063440"/>
              <a:ext cx="106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Fuerzas de adhesión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 flipV="1">
              <a:off x="6786720" y="1459800"/>
              <a:ext cx="1295640" cy="11430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>
              <a:off x="8082360" y="1460160"/>
              <a:ext cx="75960" cy="9144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58" name="AutoShape 25"/>
          <p:cNvSpPr/>
          <p:nvPr/>
        </p:nvSpPr>
        <p:spPr>
          <a:xfrm rot="17171400">
            <a:off x="6976800" y="2412360"/>
            <a:ext cx="838440" cy="609840"/>
          </a:xfrm>
          <a:prstGeom prst="rightArrow">
            <a:avLst>
              <a:gd name="adj1" fmla="val 50000"/>
              <a:gd name="adj2" fmla="val 49405"/>
            </a:avLst>
          </a:prstGeom>
          <a:solidFill>
            <a:srgbClr val="07db0c"/>
          </a:solidFill>
          <a:ln w="12600">
            <a:solidFill>
              <a:srgbClr val="675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195120" y="13831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a cohesión molecular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195120" y="305964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a tensión superficial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195120" y="405036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a fuerza de adhes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179280" y="4867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o calor específico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195120" y="5526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Densidad máxima a 4 °C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t3-2c"/>
          <p:cNvPicPr/>
          <p:nvPr/>
        </p:nvPicPr>
        <p:blipFill>
          <a:blip r:embed="rId1"/>
          <a:stretch/>
        </p:blipFill>
        <p:spPr>
          <a:xfrm>
            <a:off x="3059280" y="2781360"/>
            <a:ext cx="5859360" cy="2709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89080" y="2057040"/>
            <a:ext cx="30636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7200" indent="-187200">
              <a:lnSpc>
                <a:spcPct val="9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Al evaporarse, absorbe calor del organismo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89080" y="3065400"/>
            <a:ext cx="327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8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Solvatación iónica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Transporte de sustancias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spcBef>
                <a:spcPts val="876"/>
              </a:spcBef>
              <a:buClr>
                <a:srgbClr val="0000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cc"/>
                </a:solidFill>
                <a:latin typeface="Arial"/>
              </a:rPr>
              <a:t>Medio de reacción.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67" name="Group 8"/>
          <p:cNvGrpSpPr/>
          <p:nvPr/>
        </p:nvGrpSpPr>
        <p:grpSpPr>
          <a:xfrm>
            <a:off x="3222720" y="2331000"/>
            <a:ext cx="1447560" cy="834480"/>
            <a:chOff x="3222720" y="2331000"/>
            <a:chExt cx="1447560" cy="834480"/>
          </a:xfrm>
        </p:grpSpPr>
        <p:sp>
          <p:nvSpPr>
            <p:cNvPr id="168" name="Text Box 9"/>
            <p:cNvSpPr/>
            <p:nvPr/>
          </p:nvSpPr>
          <p:spPr>
            <a:xfrm>
              <a:off x="3222720" y="23310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Cristal de NaCl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>
              <a:off x="3755880" y="2590920"/>
              <a:ext cx="267840" cy="5745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0" name="Group 11"/>
          <p:cNvGrpSpPr/>
          <p:nvPr/>
        </p:nvGrpSpPr>
        <p:grpSpPr>
          <a:xfrm>
            <a:off x="4137120" y="4846320"/>
            <a:ext cx="1066680" cy="1136160"/>
            <a:chOff x="4137120" y="4846320"/>
            <a:chExt cx="1066680" cy="1136160"/>
          </a:xfrm>
        </p:grpSpPr>
        <p:sp>
          <p:nvSpPr>
            <p:cNvPr id="171" name="Text Box 12"/>
            <p:cNvSpPr/>
            <p:nvPr/>
          </p:nvSpPr>
          <p:spPr>
            <a:xfrm>
              <a:off x="4137120" y="546228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Molécula de agua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 flipV="1">
              <a:off x="4746600" y="4846320"/>
              <a:ext cx="151920" cy="61308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3" name="Group 14"/>
          <p:cNvGrpSpPr/>
          <p:nvPr/>
        </p:nvGrpSpPr>
        <p:grpSpPr>
          <a:xfrm>
            <a:off x="5356080" y="2369160"/>
            <a:ext cx="2133720" cy="1944000"/>
            <a:chOff x="5356080" y="2369160"/>
            <a:chExt cx="2133720" cy="1944000"/>
          </a:xfrm>
        </p:grpSpPr>
        <p:sp>
          <p:nvSpPr>
            <p:cNvPr id="174" name="Text Box 15"/>
            <p:cNvSpPr/>
            <p:nvPr/>
          </p:nvSpPr>
          <p:spPr>
            <a:xfrm>
              <a:off x="5356080" y="236916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Iones solvatados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5" name="Line 16"/>
            <p:cNvSpPr/>
            <p:nvPr/>
          </p:nvSpPr>
          <p:spPr>
            <a:xfrm>
              <a:off x="6194160" y="2637000"/>
              <a:ext cx="914400" cy="16761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>
              <a:off x="6194160" y="2637000"/>
              <a:ext cx="1295640" cy="91440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7" name="Group 18"/>
          <p:cNvGrpSpPr/>
          <p:nvPr/>
        </p:nvGrpSpPr>
        <p:grpSpPr>
          <a:xfrm>
            <a:off x="3222720" y="4008600"/>
            <a:ext cx="1142640" cy="420120"/>
            <a:chOff x="3222720" y="4008600"/>
            <a:chExt cx="1142640" cy="420120"/>
          </a:xfrm>
        </p:grpSpPr>
        <p:sp>
          <p:nvSpPr>
            <p:cNvPr id="178" name="Text Box 19"/>
            <p:cNvSpPr/>
            <p:nvPr/>
          </p:nvSpPr>
          <p:spPr>
            <a:xfrm>
              <a:off x="3222720" y="412164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Na</a:t>
              </a:r>
              <a:r>
                <a:rPr b="0" lang="es-ES_tradnl" sz="1400" spc="-1" strike="noStrike" baseline="30000">
                  <a:solidFill>
                    <a:srgbClr val="2f2b2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9" name="Line 20"/>
            <p:cNvSpPr/>
            <p:nvPr/>
          </p:nvSpPr>
          <p:spPr>
            <a:xfrm flipH="1">
              <a:off x="3679560" y="4008600"/>
              <a:ext cx="685800" cy="3045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80" name="Group 21"/>
          <p:cNvGrpSpPr/>
          <p:nvPr/>
        </p:nvGrpSpPr>
        <p:grpSpPr>
          <a:xfrm>
            <a:off x="3451320" y="4237200"/>
            <a:ext cx="989640" cy="686880"/>
            <a:chOff x="3451320" y="4237200"/>
            <a:chExt cx="989640" cy="686880"/>
          </a:xfrm>
        </p:grpSpPr>
        <p:sp>
          <p:nvSpPr>
            <p:cNvPr id="181" name="Text Box 22"/>
            <p:cNvSpPr/>
            <p:nvPr/>
          </p:nvSpPr>
          <p:spPr>
            <a:xfrm>
              <a:off x="3451320" y="46170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f2b20"/>
                  </a:solidFill>
                  <a:latin typeface="Arial"/>
                </a:rPr>
                <a:t>Cl </a:t>
              </a:r>
              <a:r>
                <a:rPr b="0" lang="es-ES_tradnl" sz="1400" spc="-1" strike="noStrike" baseline="30000">
                  <a:solidFill>
                    <a:srgbClr val="2f2b2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82" name="Line 23"/>
            <p:cNvSpPr/>
            <p:nvPr/>
          </p:nvSpPr>
          <p:spPr>
            <a:xfrm flipH="1">
              <a:off x="3907800" y="4237200"/>
              <a:ext cx="533160" cy="533160"/>
            </a:xfrm>
            <a:prstGeom prst="line">
              <a:avLst/>
            </a:prstGeom>
            <a:ln w="12600">
              <a:solidFill>
                <a:srgbClr val="675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83" name="Text Box 24"/>
          <p:cNvSpPr/>
          <p:nvPr/>
        </p:nvSpPr>
        <p:spPr>
          <a:xfrm>
            <a:off x="136440" y="167544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o calor de vaporizac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172440" y="2637000"/>
            <a:ext cx="27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Elevada capacidad disolvente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179280" y="407556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Bajo grado de ionización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8000" y="4507200"/>
            <a:ext cx="306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spcBef>
                <a:spcPts val="876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f2b20"/>
                </a:solidFill>
                <a:latin typeface="Arial"/>
              </a:rPr>
              <a:t>Las disoluciones acuosas pueden tener distintos grados de pH. (Concepto de pH)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2b20"/>
                </a:solidFill>
                <a:latin typeface="Cambria"/>
              </a:rPr>
              <a:t>SALES MINERALE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640" y="105228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2b20"/>
                </a:solidFill>
                <a:latin typeface="Calibri"/>
              </a:rPr>
              <a:t>Disueltas o precipitadas (en estado sólido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58920" y="155736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SALES MINERALES PRECIPITADAS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84360" y="2133720"/>
            <a:ext cx="77752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2b20"/>
                </a:solidFill>
                <a:latin typeface="Arial"/>
              </a:rPr>
              <a:t>Forman estructuras de protección o de sostén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2f2b20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2f2b20"/>
                </a:solidFill>
                <a:latin typeface="Arial"/>
              </a:rPr>
              <a:t>Carbonato cálcico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 : CaCO</a:t>
            </a:r>
            <a:r>
              <a:rPr b="0" lang="es-ES" sz="20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. En caparazones, en huesos, en dientes, en las conchas de moluscos, en el esqueleto de corales.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2f2b20"/>
                </a:solidFill>
                <a:latin typeface="Arial"/>
              </a:rPr>
              <a:t>Silicatos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: en espículas de las esponjas, en estructuras de sostén de algunos vegetales, en caparazones.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2f2b20"/>
                </a:solidFill>
                <a:latin typeface="Arial"/>
              </a:rPr>
              <a:t>Fosfato cálcico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: Ca</a:t>
            </a:r>
            <a:r>
              <a:rPr b="0" lang="es-ES" sz="2000" spc="-1" strike="noStrike" baseline="-25000">
                <a:solidFill>
                  <a:srgbClr val="2f2b2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(PO</a:t>
            </a:r>
            <a:r>
              <a:rPr b="0" lang="es-ES" sz="2000" spc="-1" strike="noStrike" baseline="-25000">
                <a:solidFill>
                  <a:srgbClr val="2f2b20"/>
                </a:solidFill>
                <a:latin typeface="Arial"/>
              </a:rPr>
              <a:t>4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)</a:t>
            </a:r>
            <a:r>
              <a:rPr b="0" lang="es-ES" sz="2000" spc="-1" strike="noStrike" baseline="-25000">
                <a:solidFill>
                  <a:srgbClr val="2f2b20"/>
                </a:solidFill>
                <a:latin typeface="Arial"/>
              </a:rPr>
              <a:t>2. </a:t>
            </a:r>
            <a:r>
              <a:rPr b="0" lang="es-ES" sz="2000" spc="-1" strike="noStrike">
                <a:solidFill>
                  <a:srgbClr val="2f2b20"/>
                </a:solidFill>
                <a:latin typeface="Arial"/>
              </a:rPr>
              <a:t>Forma los huesos de los vertebrados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9:08:25Z</dcterms:created>
  <dc:creator>Pili</dc:creator>
  <dc:description/>
  <dc:language>en-US</dc:language>
  <cp:lastModifiedBy>inma</cp:lastModifiedBy>
  <dcterms:modified xsi:type="dcterms:W3CDTF">2016-01-10T20:28:33Z</dcterms:modified>
  <cp:revision>15</cp:revision>
  <dc:subject/>
  <dc:title>UNIDAD 1. LA BASE FÍSICO-QUÍMICA DE LAVIDA: BIOELEMENTOS Y BIOMOLÉCULAS</dc:title>
</cp:coreProperties>
</file>